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542F-9895-4463-8D34-4C467FBC0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525D-DF79-46B3-BACE-46699DAE7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C9F8-C5BD-4339-98A2-5EF90F1EB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ACB3-F729-4C4E-8E99-5AD73655B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61BC-56BA-4100-8937-E7D8330D0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8859-1B41-4B81-B5E0-CC1DFF6A6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C5B7-36D7-4F15-8ECC-7EB7084E6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7C63-2A5B-49EE-A85C-2A2ADAD87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DACE-F5D2-41D3-9268-F79F61BA4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0BBC-23FF-4415-AB68-F59A95F77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3627-4CEE-4543-A3AC-0D7D22243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FB8F-0026-43B0-ACA7-8B347E7FA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C9C-015D-4F31-8304-BE01C2D17D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812-0457-4A9D-A5DE-AD6EAD8716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Double Click to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2B1E-3B40-4C37-971E-2CC99EDC6A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865-5A28-4AB9-B0F7-38A690FA0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68E2-A292-412C-8B9C-65DD177F7C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69E1-49F2-43DC-B350-7307604D28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2-07T16:05:05Z</dcterms:modified>
  <cp:revision>8</cp:revision>
  <dc:subject/>
  <dc:title>&lt;Title&gt;</dc:title>
</cp:coreProperties>
</file>